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A3D3-4B9C-45EE-88E7-4BDEDE48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D6A2-8F6A-4235-8EC9-16B68DE0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6E916-BC18-49C0-8CEF-EF3A7F56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17743-BAC6-4214-8827-A917D08A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8B3FC-1C46-4FE1-853A-39F05FE6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2BB33-F0E7-4B08-A5B0-F401054A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30024-BA1B-4018-95D0-A12D8CFA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30AFA-A121-4838-89BE-9CE3F99A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19AF3-F169-4990-AD82-063F9343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3AA1A-83FB-4C6E-9F9E-4B7576D4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8CCBC-7F01-475A-9493-4F1EC3F6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F78F7-3CAF-4635-A730-538F99E7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86B9-4C7C-4108-9F94-EAC48311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92619-551C-4A14-9ED4-B097D668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48851-E31D-40BF-93FD-2A5884C7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842E7-14FF-4401-8482-C3F85373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1B80A-7C32-4946-94F7-7E494234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44D85-8444-4BB3-9156-0A91C62F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90011-A5AC-4872-9FFE-C2502A4A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67510-463A-4CA8-8403-F0DA7478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BA114-8A02-439F-9C10-75DAC545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42129-973F-438E-AA1E-F74244F9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51ACF-C0FE-489F-8480-42E39609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7F1-7703-4AE5-9A29-5174E0B0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4007A-5BB2-4772-8A5D-FB0639FD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33B4B-E72D-4376-956A-E69BA09A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BF4FE-9EDE-4FB3-BE13-FC18E0EF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9790E-2B54-40DD-9D3B-74336A23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E52B9-CF0E-4E9B-B083-237032FD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9D2DA-FCFD-45DF-BE94-19A381E3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DEC40-AC26-40C3-9A65-0D16C711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23C14-0155-481B-9388-B07BCE2F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7273E-F74F-45EB-9601-05F755C5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1337F-7F2A-4A45-AC5B-E162695B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39EC-A86E-48EB-A956-915A3CE6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E1344-211E-464A-9A45-0358F448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45683-7133-4EE2-909B-697C2156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A2D82-E727-499D-8252-058889AF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22F3E-0DA4-4F9F-B66C-E2A32C9E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611A2-B37E-4882-8B9B-D86C9B81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04CDB-F745-4E4B-BFC1-A1269777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87D2B-2871-48C5-B7A3-08520E1C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D0F04-1219-4154-8CFA-41D5E545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F6E8C-9A04-4226-87D1-E944E025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637C2-357D-4552-A497-B4FD7FE3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0B0B-E11C-4B50-9B94-E0D4D9E1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D28B6-30CF-4CFC-ABC0-2263703D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C4F0E-0B68-415E-997D-DD2093BF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10F6D-D0D6-4E20-AA4D-2314DAD3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15AD5-DE56-4514-B2B3-A90ECE1C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FA24F-7310-43EB-B9CB-F6654E30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1AC27A-40B6-4FC1-BB74-8F40EEC8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0ABDD6-2DB1-4A80-98DC-4F6765A1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2B0FC-738C-45FD-90A0-8447DE60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92204E-CC3C-4BBE-A58C-D2F99A4B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DE857-3691-4ED1-BFAE-6E00258D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B2B1-5AA2-477A-A4C8-48DF1CF2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1EFF3-92E7-49D4-89D9-3E0C2F20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D14CA-DC19-43BA-9A74-4B447D74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A1FE0-882E-4E00-9B3B-DB4407A5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F24579-B470-4232-AEF0-9E051B13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34E2E-8552-4C6C-B240-F0841D90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E8B9D-956D-4D74-970D-18E37BDC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D0C25-673A-49CB-B804-53FDCDFF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C9805-C377-4313-A3F5-EB21BF2A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EE0122-C393-4846-82BF-4B4C6642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D7471-1B46-4175-AB58-EFC80D93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3300-DF41-4CD1-B388-016FB8B2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8BE814-E8DE-4C5D-8328-BF25C2B9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70F052-6EE3-47BA-98AA-88E862C3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CF0339-3B7C-4415-9991-CB96C24E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AA215D-8C22-4634-9751-41BBC2E7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7C3228-1E69-4AC9-960F-2DD168C5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101930-C1C4-47ED-8B7E-43E107C0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E0FF5-9DAB-407C-8BBB-92EACD35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1504A8-5A70-43B9-A4A1-1D99449C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5F9ABA-F21C-4359-B951-D0DE50D8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262D8B-DD2B-439D-8CD1-F90B51D0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7FD2-62AA-402B-B05D-907B162A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E4F6D1-0A40-450C-9A17-208F5405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3A4E91-2C4F-431F-AF29-8D939C57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1674A2-2D0D-40DA-A649-ACDC765C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5155DD-920B-4BD0-AC71-F8FD4DD0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500886-5C4E-422D-B448-778DDDAB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908A5-8D39-468D-94C4-5189D918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52A43A-83DA-49E8-AE0A-217B6E90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D4C08E-B774-4B74-8313-8EA74116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1B5BA9-893C-4B07-B510-D1A3C3AE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569F75-EA40-46C3-9858-EE1007FE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D851-21C0-4241-B940-6EC0C2EF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31ADD8-AB3F-46A7-8653-1FC864EC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65CD2C-D0DD-4C9B-A95A-8E0A71E3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FD555F-5334-4E86-8CDC-8C15292E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B8FC2F-6991-40A4-B8E1-F0C7907B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B33430-A9FB-4DBB-96DE-32BE2C38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5F25BB-2A9B-438D-B866-DCB9BB3C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AE172A-DC94-4F95-A292-037FC823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99989B-7B07-4D77-B3F0-28E1F726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962B14-6253-441A-A037-6CFA4FD5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D54147-7053-4D59-8910-6B59CB60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1CAE-2A3B-4D91-A20B-83942B58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0A1922-CBF7-4FDB-BDC6-A901ED3D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23D60A-BD18-42C9-8993-946130AA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FB58D1-718A-4B77-899C-A7A0B56B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B0734A-FF67-421C-A404-8CE99833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EAE692-093D-4D71-BDFD-54A6BC95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B3EE22-0D4A-4E7B-B910-E7D72CC1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8CB846-704C-499F-B67A-B78E18B4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709A97-EEBE-4DF5-808C-6CFCB267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CC4EA5-43DF-41FB-9F36-EEDA468F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10F7B7-E9FC-418F-9E0F-93B6CD52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401-904F-4FCB-BC22-1EE152E2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131D-0DB2-434D-86E6-F1243D15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8EE9EF-98B0-4718-B641-2B3C2D85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D1AC34-F02B-4A35-8EE5-D68692D6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FB7B04-94E8-4BF7-817C-EBA1A1D8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8B543D-3A74-43B2-8F2D-13A73AD8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BF41DC-E0F7-4B18-9B3D-65287848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966E54-B003-46E0-A444-6573111F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2E2FEB-46F2-42E5-8CB3-4DD05359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D6DF72-B9C8-4568-A020-32A45009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D2D1D5-36B0-4BAD-9204-9012E90A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3703A0-67C3-4102-8147-E02DE612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A03E-6F44-4D23-829E-57FAE8F8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D1B1FF-53B7-4044-A97B-9CABB142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E88595-3EF4-485E-A696-8DFF7888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E9ADF1-24E0-4475-AD08-C1E0B669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CC0B94-F5C2-4F6E-A8A7-DDED584D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2AB648-8484-4CD6-ADB8-975631B6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AB16F6-14E2-47EA-A5C4-6B428C5B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39A914-DAAA-420B-8592-DEE1166F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949894-0D65-46C8-B486-D0A40286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D72533-B1F4-42AC-9735-B9ED91D8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9BC3B2-A3A5-4D00-8682-B94F8974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8193-B5B3-44A4-872C-2DA53B49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7742F0-27B4-430D-8AE9-918EF492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7074FC-B0D2-415A-A6FC-D60A01AE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81DE26-3520-4682-9FAC-5AEA943A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82EE39-78A3-4FDA-985E-D1F9F88E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203A58-55B6-40D5-8C60-C0C53CAA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ECCDF-836A-4241-9552-7CA56AB0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868052-E500-446A-BEC1-175381A3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0060EE-D6EB-403D-9A4B-1A157025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E8CC34-B71E-4132-B3B9-8BE9E985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F7966E-4153-47E1-8444-4803BB3E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5638-AC0C-4AD3-B7B8-1F660F08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170905-AD8C-4A75-B977-376FF16F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3D9A30-D732-4927-99CB-36393E6C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98E3DD-629C-47A4-A240-950B8012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1563CC-9587-421F-B3FE-26CE3DDE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236476-9381-4AB3-98F9-4F7B8A4A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736413-E0C7-4D2B-ADAA-17BDE3E7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674BE0-16C4-4EDA-8DAB-1AB92F78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3B0CC8-2915-463A-A47A-30C2BBE6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C8BA02-13A1-413B-9FEE-A0051CCD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0C22DD-AEF7-4C06-B094-37348AC0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7051-2AB7-48ED-A119-BFB306D7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8773A5-CAA5-4FB3-B397-A2B9C757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D9F513-A843-4460-9562-D24D3CF4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21BC43-7857-4614-909D-1CB3EA2E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21E60F-96DE-476F-B2D0-6C4BB08B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E3B996-2D53-43AE-9864-A08572A8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DB2915-0447-4DA8-9A31-4CD88200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2B458F-97A7-477E-94BF-B2797FE5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355A16-5418-411B-9C4F-F8B1D2D2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008BB3-3D66-4004-9E50-B5776FD1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1C0CC7-CB0B-4D12-98D8-6865D1DE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65988-CFED-4F99-82F7-73D31A37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A3D189-31F7-49F4-B8C4-417F696E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42BCB2-E8E4-498F-81F7-137408DD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C6EE3B-B047-4038-9F34-4438A7C5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66F35C-7B81-4EED-82F0-116E3160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92709C-6F64-4D08-9125-A5892F10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6212E7-9C7A-4622-ABBB-33BEF744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066FE3-63C3-40AF-93F3-80B14624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606145-06A7-4725-8B99-F8C90E5F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88942C-2176-4461-BB3D-021EE0D2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7C3F50-08B8-4F10-AE89-5554ABB8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5C2DB-7E05-4A85-8270-52CB607A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8940A2-F47D-42D3-B022-4DBA47B8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589C60-E1DB-42A9-BC11-65D0B640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1D461F-D4EC-4F98-AA33-C330B591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BD9060-C393-4F46-AF4C-80EB504F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63ACE5-84A7-4636-A791-B295112D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97264B-4EC1-454D-839C-BF6B4468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66A3AD-432A-4495-BEC5-87CA4380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DD92AA-3E37-4014-AAA9-07ECBED0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5341AF-D00D-4DC7-A9D8-DF9C91DD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783932-A289-43CC-AF24-FF40DB74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A67CE-767D-455F-9C5E-E204586E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49B6E6-86C7-4CE8-8035-A5B8459D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841307-A8CA-4AF0-8573-5ABDD6B9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BB21AB-5CC3-4AAF-B373-3C05D193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39263A-4D20-4506-A6E9-075653AB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682170-F750-43CA-974D-1361B969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87891F-6ACE-4F1B-8533-B2D9AC64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08AF8D-CCFD-4BF0-945E-E5AAF5B8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9E5E90-CE81-4272-9CDA-A73D824A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1D219D-2E91-4FD1-BCD2-805764F2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393E69-52B2-41D8-A04B-F54D88D6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58C5A-E89C-464B-B98D-BDB5BE43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83DDD2-B925-4C08-A3C4-AFDBE353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811351-1308-45B8-98B8-3CDFAC72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068259-DA63-4C31-AECE-CA370D14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ABAA85-15F8-4130-816C-FC8EE25C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F72B7B-8A7A-4713-881D-1C9C8B05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2B80DE-47E2-4351-BC2B-3CDBA58C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A34ACD-BE8A-4672-B72B-F11CC8EB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DFD46E-D150-4AE7-893C-83780B66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74E555-8EDF-4966-981F-D4865982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A35BFF-68AD-4301-A054-90EA9DB3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621AF-2420-4374-8ECC-41E37DE5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718719-943F-49CB-82B6-72477C7C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254D17-1390-4876-B75B-8FBA57BE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73B2F8-B50B-443E-B60E-5D3BBE7C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C5CB06-C731-4144-AA5A-96D882EC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C33435-1066-4E86-A03E-3B70B405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B8F0F5-624D-46DF-BD1B-3D25D889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B102EE-39E5-4D91-9B94-046035E6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B9DD4D-2D41-42AA-A3BA-81C2244B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13B3EF-D401-4BCF-BF53-6388ADE4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A35429-52F9-4D3F-B501-082E8929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506C-53EB-4A8F-A2D5-C8C56F04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5BA7F-CE89-408B-A649-AEF30DD2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82DCC0-C357-4702-BC7E-4C643483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740D5B-7EF5-43A6-AA66-57AB984D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302BDD-6E88-43D3-98C9-6455A493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EE4A26-1258-42FD-B3F1-CE9E791E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2A3B92-1396-4FF4-A72C-3F2A9CE5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A2E693-0F7B-42C3-A1AB-F8BC179C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A7603D-0C96-437A-9C3D-21830009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80D97F-4EBF-48B0-81FA-89817AD9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0CCADB-ADA5-46A0-BF90-7CEF5DB4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EB6CCB-3194-42CE-9DAE-B46C0E11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D2328-1D82-4D38-BCDD-D42C5B5B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E4E360-59CA-4BF3-8CEC-248F32E5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3B42EB-3864-4F2A-B6AB-2FEDF705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33D4E1-CEC0-4242-997F-0C909440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29D5E6-4E54-447D-9F2A-C7B3D5F7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F0E2D5-8561-4F7B-8971-C5BDDC70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DD9CD4-9818-4715-BDA5-3080C1E5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269013-A53E-45EA-A95A-37D30803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E7B93A-3517-4192-AB01-B735EBBC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39CD8F-9806-4D63-AE8B-6AE75FB2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948373-66D3-4AE6-BE63-3F2459BB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2865F-268B-4216-B28F-359E51B9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8D026B-D7A6-44F9-9D1C-123C25A0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FE489D-F870-415A-8351-E9EEE227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670B58-DC6A-44FE-8DB8-0C499939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264CDB-E13B-47E3-A654-9995756E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CCC6F7-F57E-4005-9B05-BA7F7E8F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191D5D-2B48-42B8-84D3-93C0BE9F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12481A-E4F7-439F-842B-71207FA9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46B0D0-F080-42D0-99BE-B15AC6C7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5B75E2-6D71-421A-A22B-35A40343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B500E2-03BF-499F-B37B-D5451F27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671FF-BC0E-454E-B239-8A6EAE7D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292B58-D91D-45DE-B5DD-9831D876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121E57-56CC-4557-989F-D59A5B60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F152CF-55B0-49DF-87A3-692B0F81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4A1A28-53EF-4FEA-A4F0-60919CDC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3516E3-CBBA-4352-A7BD-E5B4BA33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C8A899-BD32-4CBB-97FA-38C13972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2347B7-BD70-4E23-B689-4469E60F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EE5301-BCE2-42EA-8454-35DF8725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2D8D63-4F41-43F8-9EA4-EF874DBD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35E84F-1ADE-4B56-BAD1-CB872C83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7D6D6-6B8D-4F04-B399-D2EC8076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68F8BF-F99A-419E-8954-F3A120E2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07794A-3919-498C-B65A-7979848E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EEB61E-9466-4EE1-9B84-97DA7F71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AAC9DA-497A-424A-942B-172F15CF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76A08B-13E8-4B0C-BAAB-E622F862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884EA9-C7FC-4F12-A5F5-0FB9090F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BE13B0-5D4D-4F6B-97CA-008CC459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445806-EA89-4493-B9CA-E67D08F8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B4C600-6C69-4B1B-A414-1E2277E7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4EACC3-B898-4564-8736-63F75A99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431B8-E508-4CBC-9C63-AF82208B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8DD187-5835-43B4-B51D-CA4AB7B9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92E058-8012-4048-938A-A5D058B0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5E98E0-5D9A-4FE2-A9BE-C08F0541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576964-328E-4B25-AB19-3ED6382D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6E3667-C94D-482A-823B-B382A80E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B0E7CE-2A00-47F3-816C-71ABCE5C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79E736-C7C5-4D35-B363-88A45679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D16041-E011-4788-863E-1F8577C9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FE0534-2294-4AC0-A4C9-C995B02A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6AA028-C2BC-4473-B39A-489FB78E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C175D-24D0-465B-9068-C9C2C8B0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9732FA-96B1-4ABA-A60B-E7477098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2D616A-80A3-4AA8-B98B-7D7E6368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DE1FF1-714A-43FC-AD9B-8B7915E5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403716-1A68-478C-A4AF-91053A3C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79DE5B-96EF-4EA0-9548-ED92F827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B409EE-F10C-477A-B6E2-30FE1567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CF61EE-8580-49DB-BD2C-5C6AC596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ACADB0-5EFB-42A5-8954-48E46734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478D41-F8FD-4998-A224-906DF0A1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0B3E13-6816-4692-B3E1-D73F737B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EE26A-604C-4393-A867-D3658AAE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1EF9FE-9530-4414-97EB-8CB05B49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879E4E-7D3F-4966-8140-9F7C2D21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D8A07B-6175-4DF7-82FD-AA3E6171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E8C1B-DCF2-45EF-86F0-6FD92BCD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AA694-961C-4DC4-8973-467E42A0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CCAE-6154-4034-AF6A-3F842165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80CCB-645C-4B92-BB85-5F29A166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0F2ED-CF21-47EB-94D3-BE9543D1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8378F-6A0E-4736-839C-C91EF1E8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5C387-C8A5-4125-9846-EFEE81ED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5C3E7-8FB2-4C76-94E3-1E3E682B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96DEA-4750-4886-833F-9654554E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03B92-1CAB-400E-90AA-9CBC720F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6F2ED-4424-4AE7-9E07-C8153E07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302A6-096F-4890-86D1-0B14865A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56C3E-F42C-4E67-9CE4-8F92A639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0B8-FA1A-4F54-BA00-7CACE908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AA286-BF3E-482C-BEF9-799C11AB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0991D-8651-4CD0-B437-2DCC3BEE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22E1D-4F7B-486E-AD09-5F773395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5598A-3049-438A-A5B7-61D61EE9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00512-19B2-4E28-8183-9FBB7125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0DE64-E905-43AD-A4CB-2B7D67FC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3E99E-8E54-4165-9A1C-CE7F0AD6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D5566-98BD-49AC-91B7-22B588A3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D09EB-7DA7-4357-A8CF-FA97CE41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08FC3-64B2-4A45-82E3-9406B300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732-C720-41FE-B76D-D6ACB910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A36F8-31EE-4B09-B27F-2B7ECFE2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68016-1498-4F5B-867A-6147D66D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23363-EC9B-4233-B4E0-94078EF5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33B2E-D309-404D-A7C6-EACBD733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0EEB2-EF74-4D93-A044-A5D7D674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0E266-CBDF-4477-990F-A5310A06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E47EF-9B93-4EA5-9F05-B3A83FC5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32FB1-4F22-4DB9-B466-E6901415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72980-A786-4045-951B-39A415EF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EFF70-E4D9-4A97-9115-257701A1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4B31-6081-4EC6-B09B-0EB9E872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84952-556E-4852-A4FA-97F68EDF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665D7-4DB0-4E90-98A9-6D3566AD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A6128-9E59-4232-AF25-467FF41A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9339C-03BC-41B6-BB08-318741DE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36B44-9F60-4B3C-8CEA-FFF2E4C6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096BD-CF94-421F-95A9-C7B1A880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DDCF3-5CF2-40C5-8A27-74EA93B4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CE369-8227-4FD5-95AB-6D9E3CD9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A850D-640F-4C21-832D-121EDC35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B2E85-B91D-4AD7-98A3-BB10B15A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80A-5F11-4E56-8476-BCDE4EFC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C9D18-8FCC-4021-A7B7-48EFFD8F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E5076-675B-473C-8B47-17E3CC2C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3ED14-0AB4-4C53-956C-371E07C8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7460F-C7A6-42E2-9468-0AF82CCA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5EA47-40AA-4871-AABB-FACE6650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C91C3-849C-4E7C-B4AE-F0463238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1D85C-C583-4D49-B0C1-C8B22269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F0C11-567A-454C-A6FB-1C96B4FF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B7218-C09F-4890-95B2-487E5D1D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EF802-BD6F-42DD-8123-313C8CD0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6CB-B4B5-48EB-8D36-54D052FF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CE04D-4242-42E5-BBBD-7A397BE2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86E3A-E5DE-4F25-BA43-874F5476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6F4F1-F250-4D96-8676-5EF15549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BE557-AE9C-4DB5-9024-CF2C9B17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D9CDB-6FEC-4B2F-82CF-408E51A0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052CA-3914-4D68-A98A-24A44507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39570-49AC-4DFD-BC20-5466489A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C49EB-E241-421A-967C-CD27A2CC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83709-8E0C-44D2-85C5-F5B2EEF5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C71DD-B651-4D1C-B81E-40B2F434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EBD2-8164-4733-8660-E62BFD5553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B1D0-3C4B-4E78-AE51-525D385C7E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32EE-8CE7-4F17-843F-32B467860B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22B4-C27A-4B7C-93D9-206183B9B3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B01F-9F58-4C10-BBA2-F5BCE86AD1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BCE2-DFCE-41ED-8CA1-8EE3AB2170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48A8-186D-44A2-8426-78E4C0D724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AB90-0080-42BD-BD17-C389DC9E05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E709-0672-4097-AA51-46A3BD8C5C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3D32-D8E2-49A3-9717-E72AB7FA79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11C8-5A93-4000-A2B5-6ECEBE3487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43D0-FCA6-4C27-9FBF-1188A803E0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6213-F576-4873-8493-9D64C5FC7D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0EEA-190A-43A8-AB45-36A8259BD1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6148-BF17-421B-935F-D9C6B97B7F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A119-2F55-49EF-A0E4-FB4A2E1A3F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AA3B-F8CD-4D61-8A6B-46AA7FD9D7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4911-40A8-4C37-97E5-E63BB52D57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695A-5EB5-4FCA-8BB8-F6DE534CED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8078-49CD-4242-A11E-7AF502D383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8CA0-6D0B-4D50-93D0-805282E96C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121F-59EF-4E60-9410-540C6E4FB7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26CC-3BD3-4A61-B979-293287394B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B440-7164-4431-9EEE-25E0392482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042D-41BB-41DF-B7A4-84A607CF83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C676-7194-4DBF-AA31-4258250AB6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7936-AA2F-4969-BC68-1D60A5409E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7630-B169-4E80-901A-F1C6FA6F0F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D849-ED2F-4279-B3D8-392309E7AC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FC24-57E3-4CB0-84B3-D46FAD24D3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72E7-C782-4FE1-B440-38AB514B2D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41D3-2B96-4F86-B476-286C6F0160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A296-867B-4281-A410-14DD31FB47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F652-B8E9-4629-AD4D-8F8F80D33D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D5EF-CF0F-4266-8F60-F888D66730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1A7F-5FC9-4C05-B280-4759D0AF98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9997-4CDC-4481-929E-A375F62DC0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A122-DD68-4F5C-AE5C-E4E2A94128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1561-72E1-4061-9261-58F9929B0C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D864-01D0-49C9-BDBE-8BC9F04B71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5564-6619-44E4-BC17-6AA847C5C9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DD04-CFF2-45B5-BED4-75D7920400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5166-163C-4658-8396-9D3B4B5BB5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9596-CAF8-41E8-A4EE-C3B55A829C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15DB-AAB9-4FDF-8775-9F7FB70233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2760-EDC7-4893-A62A-7AAA11F1A6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4358-C93F-452C-B3D5-E37F980B52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8A3E-F75D-45E5-8EB4-9DD4C4F7F5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76FF-9460-432B-8B81-7E82BC4912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65C5-0F98-4192-9BEE-278AAE3A47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299880" y="1219320"/>
            <a:ext cx="8544240" cy="83808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217440" y="2852640"/>
            <a:ext cx="8048520" cy="374328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6"/>
          <p:cNvSpPr/>
          <p:nvPr/>
        </p:nvSpPr>
        <p:spPr>
          <a:xfrm>
            <a:off x="7439040" y="344160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40987"/>
          <p:cNvSpPr/>
          <p:nvPr/>
        </p:nvSpPr>
        <p:spPr>
          <a:xfrm>
            <a:off x="7413480" y="488952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2" name="图片 132097" descr=""/>
          <p:cNvPicPr/>
          <p:nvPr/>
        </p:nvPicPr>
        <p:blipFill>
          <a:blip r:embed="rId1"/>
          <a:stretch/>
        </p:blipFill>
        <p:spPr>
          <a:xfrm>
            <a:off x="631800" y="851040"/>
            <a:ext cx="6838920" cy="4952880"/>
          </a:xfrm>
          <a:prstGeom prst="rect">
            <a:avLst/>
          </a:prstGeom>
          <a:ln w="0">
            <a:noFill/>
          </a:ln>
        </p:spPr>
      </p:pic>
      <p:sp>
        <p:nvSpPr>
          <p:cNvPr id="1363" name="矩形 132098"/>
          <p:cNvSpPr/>
          <p:nvPr/>
        </p:nvSpPr>
        <p:spPr>
          <a:xfrm>
            <a:off x="733320" y="2629080"/>
            <a:ext cx="63644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132099"/>
          <p:cNvSpPr/>
          <p:nvPr/>
        </p:nvSpPr>
        <p:spPr>
          <a:xfrm>
            <a:off x="2257560" y="3556080"/>
            <a:ext cx="2439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矩形 132100"/>
          <p:cNvSpPr/>
          <p:nvPr/>
        </p:nvSpPr>
        <p:spPr>
          <a:xfrm>
            <a:off x="2003400" y="4432320"/>
            <a:ext cx="24400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矩形 132101"/>
          <p:cNvSpPr/>
          <p:nvPr/>
        </p:nvSpPr>
        <p:spPr>
          <a:xfrm>
            <a:off x="2041560" y="542304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图片 131073" descr=""/>
          <p:cNvPicPr/>
          <p:nvPr/>
        </p:nvPicPr>
        <p:blipFill>
          <a:blip r:embed="rId1"/>
          <a:stretch/>
        </p:blipFill>
        <p:spPr>
          <a:xfrm>
            <a:off x="752400" y="933480"/>
            <a:ext cx="5962680" cy="3695760"/>
          </a:xfrm>
          <a:prstGeom prst="rect">
            <a:avLst/>
          </a:prstGeom>
          <a:ln w="0">
            <a:noFill/>
          </a:ln>
        </p:spPr>
      </p:pic>
      <p:sp>
        <p:nvSpPr>
          <p:cNvPr id="1368" name="矩形 131074"/>
          <p:cNvSpPr/>
          <p:nvPr/>
        </p:nvSpPr>
        <p:spPr>
          <a:xfrm>
            <a:off x="746280" y="1841400"/>
            <a:ext cx="533556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1075"/>
          <p:cNvSpPr/>
          <p:nvPr/>
        </p:nvSpPr>
        <p:spPr>
          <a:xfrm>
            <a:off x="2041560" y="2755800"/>
            <a:ext cx="246528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1076"/>
          <p:cNvSpPr/>
          <p:nvPr/>
        </p:nvSpPr>
        <p:spPr>
          <a:xfrm>
            <a:off x="1927080" y="3683160"/>
            <a:ext cx="1360800" cy="76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1" name="图片 130049" descr=""/>
          <p:cNvPicPr/>
          <p:nvPr/>
        </p:nvPicPr>
        <p:blipFill>
          <a:blip r:embed="rId1"/>
          <a:stretch/>
        </p:blipFill>
        <p:spPr>
          <a:xfrm>
            <a:off x="281160" y="936720"/>
            <a:ext cx="7515000" cy="3943080"/>
          </a:xfrm>
          <a:prstGeom prst="rect">
            <a:avLst/>
          </a:prstGeom>
          <a:ln w="0">
            <a:noFill/>
          </a:ln>
        </p:spPr>
      </p:pic>
      <p:sp>
        <p:nvSpPr>
          <p:cNvPr id="1372" name="矩形 130050"/>
          <p:cNvSpPr/>
          <p:nvPr/>
        </p:nvSpPr>
        <p:spPr>
          <a:xfrm>
            <a:off x="809640" y="2362320"/>
            <a:ext cx="5018040" cy="75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0051"/>
          <p:cNvSpPr/>
          <p:nvPr/>
        </p:nvSpPr>
        <p:spPr>
          <a:xfrm>
            <a:off x="2028960" y="3314880"/>
            <a:ext cx="2008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0052"/>
          <p:cNvSpPr/>
          <p:nvPr/>
        </p:nvSpPr>
        <p:spPr>
          <a:xfrm>
            <a:off x="1990800" y="3886200"/>
            <a:ext cx="2008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130053"/>
          <p:cNvSpPr/>
          <p:nvPr/>
        </p:nvSpPr>
        <p:spPr>
          <a:xfrm>
            <a:off x="1965240" y="4419720"/>
            <a:ext cx="138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6" name="图片 129025" descr=""/>
          <p:cNvPicPr/>
          <p:nvPr/>
        </p:nvPicPr>
        <p:blipFill>
          <a:blip r:embed="rId1"/>
          <a:stretch/>
        </p:blipFill>
        <p:spPr>
          <a:xfrm>
            <a:off x="169920" y="914400"/>
            <a:ext cx="7991280" cy="4191120"/>
          </a:xfrm>
          <a:prstGeom prst="rect">
            <a:avLst/>
          </a:prstGeom>
          <a:ln w="0">
            <a:noFill/>
          </a:ln>
        </p:spPr>
      </p:pic>
      <p:sp>
        <p:nvSpPr>
          <p:cNvPr id="1377" name="矩形 129026"/>
          <p:cNvSpPr/>
          <p:nvPr/>
        </p:nvSpPr>
        <p:spPr>
          <a:xfrm>
            <a:off x="797040" y="3568680"/>
            <a:ext cx="203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129027"/>
          <p:cNvSpPr/>
          <p:nvPr/>
        </p:nvSpPr>
        <p:spPr>
          <a:xfrm>
            <a:off x="771480" y="4114800"/>
            <a:ext cx="7265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矩形 129028"/>
          <p:cNvSpPr/>
          <p:nvPr/>
        </p:nvSpPr>
        <p:spPr>
          <a:xfrm>
            <a:off x="720720" y="4584600"/>
            <a:ext cx="7265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图片 128001" descr=""/>
          <p:cNvPicPr/>
          <p:nvPr/>
        </p:nvPicPr>
        <p:blipFill>
          <a:blip r:embed="rId1"/>
          <a:stretch/>
        </p:blipFill>
        <p:spPr>
          <a:xfrm>
            <a:off x="233280" y="884160"/>
            <a:ext cx="7991640" cy="4276800"/>
          </a:xfrm>
          <a:prstGeom prst="rect">
            <a:avLst/>
          </a:prstGeom>
          <a:ln w="0">
            <a:noFill/>
          </a:ln>
        </p:spPr>
      </p:pic>
      <p:sp>
        <p:nvSpPr>
          <p:cNvPr id="1381" name="矩形 128002"/>
          <p:cNvSpPr/>
          <p:nvPr/>
        </p:nvSpPr>
        <p:spPr>
          <a:xfrm>
            <a:off x="797040" y="2540160"/>
            <a:ext cx="7189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矩形 128003"/>
          <p:cNvSpPr/>
          <p:nvPr/>
        </p:nvSpPr>
        <p:spPr>
          <a:xfrm>
            <a:off x="809640" y="3073320"/>
            <a:ext cx="7392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28004"/>
          <p:cNvSpPr/>
          <p:nvPr/>
        </p:nvSpPr>
        <p:spPr>
          <a:xfrm>
            <a:off x="809640" y="3632040"/>
            <a:ext cx="7392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128005"/>
          <p:cNvSpPr/>
          <p:nvPr/>
        </p:nvSpPr>
        <p:spPr>
          <a:xfrm>
            <a:off x="809640" y="4178160"/>
            <a:ext cx="4281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128006"/>
          <p:cNvSpPr/>
          <p:nvPr/>
        </p:nvSpPr>
        <p:spPr>
          <a:xfrm>
            <a:off x="809640" y="4699080"/>
            <a:ext cx="4281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图片 126977" descr=""/>
          <p:cNvPicPr/>
          <p:nvPr/>
        </p:nvPicPr>
        <p:blipFill>
          <a:blip r:embed="rId1"/>
          <a:stretch/>
        </p:blipFill>
        <p:spPr>
          <a:xfrm>
            <a:off x="239760" y="763560"/>
            <a:ext cx="8182080" cy="5991120"/>
          </a:xfrm>
          <a:prstGeom prst="rect">
            <a:avLst/>
          </a:prstGeom>
          <a:ln w="0">
            <a:noFill/>
          </a:ln>
        </p:spPr>
      </p:pic>
      <p:sp>
        <p:nvSpPr>
          <p:cNvPr id="1387" name="矩形 126978"/>
          <p:cNvSpPr/>
          <p:nvPr/>
        </p:nvSpPr>
        <p:spPr>
          <a:xfrm>
            <a:off x="5203800" y="4051440"/>
            <a:ext cx="1589040" cy="77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126979"/>
          <p:cNvSpPr/>
          <p:nvPr/>
        </p:nvSpPr>
        <p:spPr>
          <a:xfrm>
            <a:off x="5483160" y="5905440"/>
            <a:ext cx="1030320" cy="77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图片 125953" descr=""/>
          <p:cNvPicPr/>
          <p:nvPr/>
        </p:nvPicPr>
        <p:blipFill>
          <a:blip r:embed="rId1"/>
          <a:stretch/>
        </p:blipFill>
        <p:spPr>
          <a:xfrm>
            <a:off x="800280" y="757080"/>
            <a:ext cx="7543800" cy="5343840"/>
          </a:xfrm>
          <a:prstGeom prst="rect">
            <a:avLst/>
          </a:prstGeom>
          <a:ln w="0">
            <a:noFill/>
          </a:ln>
        </p:spPr>
      </p:pic>
      <p:sp>
        <p:nvSpPr>
          <p:cNvPr id="1390" name="矩形 125954"/>
          <p:cNvSpPr/>
          <p:nvPr/>
        </p:nvSpPr>
        <p:spPr>
          <a:xfrm>
            <a:off x="835200" y="2540160"/>
            <a:ext cx="6719760" cy="77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矩形 125955"/>
          <p:cNvSpPr/>
          <p:nvPr/>
        </p:nvSpPr>
        <p:spPr>
          <a:xfrm>
            <a:off x="2282760" y="3479760"/>
            <a:ext cx="2452680" cy="77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矩形 125956"/>
          <p:cNvSpPr/>
          <p:nvPr/>
        </p:nvSpPr>
        <p:spPr>
          <a:xfrm>
            <a:off x="2143080" y="4394160"/>
            <a:ext cx="2592360" cy="77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125957"/>
          <p:cNvSpPr/>
          <p:nvPr/>
        </p:nvSpPr>
        <p:spPr>
          <a:xfrm>
            <a:off x="2104920" y="5207040"/>
            <a:ext cx="1817640" cy="77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5" name="图片 140289" descr=""/>
          <p:cNvPicPr/>
          <p:nvPr/>
        </p:nvPicPr>
        <p:blipFill>
          <a:blip r:embed="rId1"/>
          <a:stretch/>
        </p:blipFill>
        <p:spPr>
          <a:xfrm>
            <a:off x="465120" y="911160"/>
            <a:ext cx="8010720" cy="4857840"/>
          </a:xfrm>
          <a:prstGeom prst="rect">
            <a:avLst/>
          </a:prstGeom>
          <a:ln w="0">
            <a:noFill/>
          </a:ln>
        </p:spPr>
      </p:pic>
      <p:sp>
        <p:nvSpPr>
          <p:cNvPr id="1336" name="矩形 140290"/>
          <p:cNvSpPr/>
          <p:nvPr/>
        </p:nvSpPr>
        <p:spPr>
          <a:xfrm>
            <a:off x="7718400" y="151128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140291"/>
          <p:cNvSpPr/>
          <p:nvPr/>
        </p:nvSpPr>
        <p:spPr>
          <a:xfrm>
            <a:off x="7705800" y="421632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" name="图片 139265" descr=""/>
          <p:cNvPicPr/>
          <p:nvPr/>
        </p:nvPicPr>
        <p:blipFill>
          <a:blip r:embed="rId1"/>
          <a:stretch/>
        </p:blipFill>
        <p:spPr>
          <a:xfrm>
            <a:off x="287280" y="703440"/>
            <a:ext cx="8086680" cy="6086160"/>
          </a:xfrm>
          <a:prstGeom prst="rect">
            <a:avLst/>
          </a:prstGeom>
          <a:ln w="0">
            <a:noFill/>
          </a:ln>
        </p:spPr>
      </p:pic>
      <p:sp>
        <p:nvSpPr>
          <p:cNvPr id="1339" name="矩形 139266"/>
          <p:cNvSpPr/>
          <p:nvPr/>
        </p:nvSpPr>
        <p:spPr>
          <a:xfrm>
            <a:off x="7578720" y="69840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39267"/>
          <p:cNvSpPr/>
          <p:nvPr/>
        </p:nvSpPr>
        <p:spPr>
          <a:xfrm>
            <a:off x="7616880" y="422928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图片 138241" descr=""/>
          <p:cNvPicPr/>
          <p:nvPr/>
        </p:nvPicPr>
        <p:blipFill>
          <a:blip r:embed="rId1"/>
          <a:stretch/>
        </p:blipFill>
        <p:spPr>
          <a:xfrm>
            <a:off x="277920" y="973080"/>
            <a:ext cx="8029440" cy="4200480"/>
          </a:xfrm>
          <a:prstGeom prst="rect">
            <a:avLst/>
          </a:prstGeom>
          <a:ln w="0">
            <a:noFill/>
          </a:ln>
        </p:spPr>
      </p:pic>
      <p:sp>
        <p:nvSpPr>
          <p:cNvPr id="1342" name="矩形 138242"/>
          <p:cNvSpPr/>
          <p:nvPr/>
        </p:nvSpPr>
        <p:spPr>
          <a:xfrm>
            <a:off x="7527960" y="102888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3" name="图片 137217" descr=""/>
          <p:cNvPicPr/>
          <p:nvPr/>
        </p:nvPicPr>
        <p:blipFill>
          <a:blip r:embed="rId1"/>
          <a:stretch/>
        </p:blipFill>
        <p:spPr>
          <a:xfrm>
            <a:off x="154080" y="716040"/>
            <a:ext cx="8200800" cy="2124000"/>
          </a:xfrm>
          <a:prstGeom prst="rect">
            <a:avLst/>
          </a:prstGeom>
          <a:ln w="0">
            <a:noFill/>
          </a:ln>
        </p:spPr>
      </p:pic>
      <p:pic>
        <p:nvPicPr>
          <p:cNvPr id="1344" name="图片 137218" descr=""/>
          <p:cNvPicPr/>
          <p:nvPr/>
        </p:nvPicPr>
        <p:blipFill>
          <a:blip r:embed="rId2"/>
          <a:stretch/>
        </p:blipFill>
        <p:spPr>
          <a:xfrm>
            <a:off x="565200" y="2811600"/>
            <a:ext cx="7810560" cy="4028760"/>
          </a:xfrm>
          <a:prstGeom prst="rect">
            <a:avLst/>
          </a:prstGeom>
          <a:ln w="0">
            <a:noFill/>
          </a:ln>
        </p:spPr>
      </p:pic>
      <p:sp>
        <p:nvSpPr>
          <p:cNvPr id="1345" name="矩形 137219"/>
          <p:cNvSpPr/>
          <p:nvPr/>
        </p:nvSpPr>
        <p:spPr>
          <a:xfrm>
            <a:off x="7527960" y="285768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图片 136193" descr=""/>
          <p:cNvPicPr/>
          <p:nvPr/>
        </p:nvPicPr>
        <p:blipFill>
          <a:blip r:embed="rId1"/>
          <a:stretch/>
        </p:blipFill>
        <p:spPr>
          <a:xfrm>
            <a:off x="393840" y="846000"/>
            <a:ext cx="8153280" cy="5953320"/>
          </a:xfrm>
          <a:prstGeom prst="rect">
            <a:avLst/>
          </a:prstGeom>
          <a:ln w="0">
            <a:noFill/>
          </a:ln>
        </p:spPr>
      </p:pic>
      <p:sp>
        <p:nvSpPr>
          <p:cNvPr id="1347" name="矩形 136194"/>
          <p:cNvSpPr/>
          <p:nvPr/>
        </p:nvSpPr>
        <p:spPr>
          <a:xfrm>
            <a:off x="6765840" y="144792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36195"/>
          <p:cNvSpPr/>
          <p:nvPr/>
        </p:nvSpPr>
        <p:spPr>
          <a:xfrm>
            <a:off x="5127480" y="289548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36196"/>
          <p:cNvSpPr/>
          <p:nvPr/>
        </p:nvSpPr>
        <p:spPr>
          <a:xfrm>
            <a:off x="5788080" y="416556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36197"/>
          <p:cNvSpPr/>
          <p:nvPr/>
        </p:nvSpPr>
        <p:spPr>
          <a:xfrm>
            <a:off x="1317600" y="635004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1" name="图片 135169" descr=""/>
          <p:cNvPicPr/>
          <p:nvPr/>
        </p:nvPicPr>
        <p:blipFill>
          <a:blip r:embed="rId1"/>
          <a:stretch/>
        </p:blipFill>
        <p:spPr>
          <a:xfrm>
            <a:off x="338040" y="849240"/>
            <a:ext cx="8086680" cy="5362560"/>
          </a:xfrm>
          <a:prstGeom prst="rect">
            <a:avLst/>
          </a:prstGeom>
          <a:ln w="0">
            <a:noFill/>
          </a:ln>
        </p:spPr>
      </p:pic>
      <p:sp>
        <p:nvSpPr>
          <p:cNvPr id="1352" name="矩形 135170"/>
          <p:cNvSpPr/>
          <p:nvPr/>
        </p:nvSpPr>
        <p:spPr>
          <a:xfrm>
            <a:off x="5367240" y="1434960"/>
            <a:ext cx="676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5171"/>
          <p:cNvSpPr/>
          <p:nvPr/>
        </p:nvSpPr>
        <p:spPr>
          <a:xfrm>
            <a:off x="4960800" y="5181480"/>
            <a:ext cx="341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5172"/>
          <p:cNvSpPr/>
          <p:nvPr/>
        </p:nvSpPr>
        <p:spPr>
          <a:xfrm>
            <a:off x="1036800" y="5727600"/>
            <a:ext cx="1666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图片 134145" descr=""/>
          <p:cNvPicPr/>
          <p:nvPr/>
        </p:nvPicPr>
        <p:blipFill>
          <a:blip r:embed="rId1"/>
          <a:stretch/>
        </p:blipFill>
        <p:spPr>
          <a:xfrm>
            <a:off x="345960" y="865080"/>
            <a:ext cx="7182000" cy="4695840"/>
          </a:xfrm>
          <a:prstGeom prst="rect">
            <a:avLst/>
          </a:prstGeom>
          <a:ln w="0">
            <a:noFill/>
          </a:ln>
        </p:spPr>
      </p:pic>
      <p:sp>
        <p:nvSpPr>
          <p:cNvPr id="1356" name="矩形 134146"/>
          <p:cNvSpPr/>
          <p:nvPr/>
        </p:nvSpPr>
        <p:spPr>
          <a:xfrm>
            <a:off x="949320" y="2870280"/>
            <a:ext cx="655488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4147"/>
          <p:cNvSpPr/>
          <p:nvPr/>
        </p:nvSpPr>
        <p:spPr>
          <a:xfrm>
            <a:off x="2232000" y="3822840"/>
            <a:ext cx="285912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4148"/>
          <p:cNvSpPr/>
          <p:nvPr/>
        </p:nvSpPr>
        <p:spPr>
          <a:xfrm>
            <a:off x="2219400" y="4749840"/>
            <a:ext cx="172872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9" name="图片 133121" descr=""/>
          <p:cNvPicPr/>
          <p:nvPr/>
        </p:nvPicPr>
        <p:blipFill>
          <a:blip r:embed="rId1"/>
          <a:stretch/>
        </p:blipFill>
        <p:spPr>
          <a:xfrm>
            <a:off x="649440" y="873000"/>
            <a:ext cx="6067440" cy="2266920"/>
          </a:xfrm>
          <a:prstGeom prst="rect">
            <a:avLst/>
          </a:prstGeom>
          <a:ln w="0">
            <a:noFill/>
          </a:ln>
        </p:spPr>
      </p:pic>
      <p:sp>
        <p:nvSpPr>
          <p:cNvPr id="1360" name="矩形 133122"/>
          <p:cNvSpPr/>
          <p:nvPr/>
        </p:nvSpPr>
        <p:spPr>
          <a:xfrm>
            <a:off x="657360" y="1778040"/>
            <a:ext cx="570384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3123"/>
          <p:cNvSpPr/>
          <p:nvPr/>
        </p:nvSpPr>
        <p:spPr>
          <a:xfrm>
            <a:off x="2003400" y="2705040"/>
            <a:ext cx="1119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1T01:14:14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